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ABF-25B9-4705-B548-5CC7676B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7CC9-40A2-4FA6-AFA2-8EC0DFCB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66E-CDF0-4ECC-B60B-70C600A9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668-8D15-459B-9854-BFDDDCDC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49AF-FF32-42E3-B858-F82A2F40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F285-DBE3-4EF6-A3A7-2586AFA7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2420-E071-4146-B3D0-075884A4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B1B4-A49C-4B42-9814-BB28436C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2360-E032-4F0E-9DA1-3D0BAEF5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7BAF-22B2-47AD-9D07-CD321EA3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96D3-BEEA-41B0-8246-DD68A20C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F4B-D2E5-4F74-AAB3-CF90C5FC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98F8-F79A-47FC-91FB-1CDA73CB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7A3D-EB78-4D58-A387-55D9BD56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A0DA-21F9-42B6-8239-F51E60DB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9690-E2DB-4EE0-AC70-4B9D4CFB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FCCB-CA01-4CDC-886C-80535080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320-B57D-4BE3-9C5E-CF35FA79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E1B2-AD78-44A6-B10D-AF3A456D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0D9-C9B6-475C-8D97-7812C4DC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A1E-14DA-4704-9B53-EAD35310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AE9-D6B9-4478-BB27-9382E887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75F6-10F8-4E6C-A5BC-66CFE7D6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EF77-79DA-4631-814F-D965E9C1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DE6C-E603-4A59-982D-95AA4F6A9A8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59DE-B2F9-4595-A998-EF458886694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4167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Осевая симметрия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26920" y="2707920"/>
            <a:ext cx="78091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Геометрия 8 класс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Учитель математики Лицея 554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Александрова Ольга Александровна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острое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71280" y="2349360"/>
            <a:ext cx="72723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точки, симметричной данн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трезка, симметричного данном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треугольника, симметричного данном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">
            <a:hlinkClick r:id="rId2" action="ppaction://hlinksldjump"/>
          </p:cNvPr>
          <p:cNvSpPr/>
          <p:nvPr/>
        </p:nvSpPr>
        <p:spPr>
          <a:xfrm>
            <a:off x="8028000" y="6021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17806" y="10809"/>
                </a:lnTo>
                <a:lnTo>
                  <a:pt x="3794" y="17815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>
            <a:off x="7380360" y="6021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76360" y="256536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346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919" h="21600">
                <a:moveTo>
                  <a:pt x="14565" y="14281"/>
                </a:moveTo>
                <a:lnTo>
                  <a:pt x="14565" y="12323"/>
                </a:lnTo>
                <a:cubicBezTo>
                  <a:pt x="14565" y="11496"/>
                  <a:pt x="14896" y="10800"/>
                  <a:pt x="15496" y="10800"/>
                </a:cubicBezTo>
                <a:cubicBezTo>
                  <a:pt x="16628" y="10800"/>
                  <a:pt x="17524" y="9434"/>
                  <a:pt x="17524" y="7849"/>
                </a:cubicBezTo>
                <a:cubicBezTo>
                  <a:pt x="17524" y="5534"/>
                  <a:pt x="15670" y="3794"/>
                  <a:pt x="13460" y="3794"/>
                </a:cubicBezTo>
                <a:cubicBezTo>
                  <a:pt x="11249" y="3794"/>
                  <a:pt x="9578" y="5534"/>
                  <a:pt x="9578" y="7849"/>
                </a:cubicBezTo>
                <a:lnTo>
                  <a:pt x="11432" y="7849"/>
                </a:lnTo>
                <a:cubicBezTo>
                  <a:pt x="11432" y="6709"/>
                  <a:pt x="12354" y="5821"/>
                  <a:pt x="13460" y="5821"/>
                </a:cubicBezTo>
                <a:cubicBezTo>
                  <a:pt x="14565" y="5821"/>
                  <a:pt x="15496" y="6709"/>
                  <a:pt x="15496" y="7849"/>
                </a:cubicBezTo>
                <a:cubicBezTo>
                  <a:pt x="15496" y="8589"/>
                  <a:pt x="15026" y="9320"/>
                  <a:pt x="14565" y="9320"/>
                </a:cubicBezTo>
                <a:cubicBezTo>
                  <a:pt x="13460" y="9320"/>
                  <a:pt x="12354" y="10800"/>
                  <a:pt x="12354" y="12323"/>
                </a:cubicBezTo>
                <a:lnTo>
                  <a:pt x="12354" y="14281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76360" y="314172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953" h="21600">
                <a:moveTo>
                  <a:pt x="14582" y="14281"/>
                </a:moveTo>
                <a:lnTo>
                  <a:pt x="14582" y="12323"/>
                </a:lnTo>
                <a:cubicBezTo>
                  <a:pt x="14582" y="11496"/>
                  <a:pt x="14913" y="10800"/>
                  <a:pt x="15513" y="10800"/>
                </a:cubicBezTo>
                <a:cubicBezTo>
                  <a:pt x="16645" y="10800"/>
                  <a:pt x="17541" y="9434"/>
                  <a:pt x="17541" y="7849"/>
                </a:cubicBezTo>
                <a:cubicBezTo>
                  <a:pt x="17541" y="5534"/>
                  <a:pt x="15687" y="3794"/>
                  <a:pt x="13476" y="3794"/>
                </a:cubicBezTo>
                <a:cubicBezTo>
                  <a:pt x="11266" y="3794"/>
                  <a:pt x="9595" y="5534"/>
                  <a:pt x="9595" y="7849"/>
                </a:cubicBezTo>
                <a:lnTo>
                  <a:pt x="11449" y="7849"/>
                </a:lnTo>
                <a:cubicBezTo>
                  <a:pt x="11449" y="6709"/>
                  <a:pt x="12371" y="5821"/>
                  <a:pt x="13476" y="5821"/>
                </a:cubicBezTo>
                <a:cubicBezTo>
                  <a:pt x="14582" y="5821"/>
                  <a:pt x="15513" y="6709"/>
                  <a:pt x="15513" y="7849"/>
                </a:cubicBezTo>
                <a:cubicBezTo>
                  <a:pt x="15513" y="8589"/>
                  <a:pt x="15043" y="9320"/>
                  <a:pt x="14582" y="9320"/>
                </a:cubicBezTo>
                <a:cubicBezTo>
                  <a:pt x="13476" y="9320"/>
                  <a:pt x="12371" y="10800"/>
                  <a:pt x="12371" y="12323"/>
                </a:cubicBezTo>
                <a:lnTo>
                  <a:pt x="12371" y="14281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76360" y="378936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346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919" h="21600">
                <a:moveTo>
                  <a:pt x="14565" y="14281"/>
                </a:moveTo>
                <a:lnTo>
                  <a:pt x="14565" y="12323"/>
                </a:lnTo>
                <a:cubicBezTo>
                  <a:pt x="14565" y="11496"/>
                  <a:pt x="14896" y="10800"/>
                  <a:pt x="15496" y="10800"/>
                </a:cubicBezTo>
                <a:cubicBezTo>
                  <a:pt x="16628" y="10800"/>
                  <a:pt x="17524" y="9434"/>
                  <a:pt x="17524" y="7849"/>
                </a:cubicBezTo>
                <a:cubicBezTo>
                  <a:pt x="17524" y="5534"/>
                  <a:pt x="15670" y="3794"/>
                  <a:pt x="13460" y="3794"/>
                </a:cubicBezTo>
                <a:cubicBezTo>
                  <a:pt x="11249" y="3794"/>
                  <a:pt x="9578" y="5534"/>
                  <a:pt x="9578" y="7849"/>
                </a:cubicBezTo>
                <a:lnTo>
                  <a:pt x="11432" y="7849"/>
                </a:lnTo>
                <a:cubicBezTo>
                  <a:pt x="11432" y="6709"/>
                  <a:pt x="12354" y="5821"/>
                  <a:pt x="13460" y="5821"/>
                </a:cubicBezTo>
                <a:cubicBezTo>
                  <a:pt x="14565" y="5821"/>
                  <a:pt x="15496" y="6709"/>
                  <a:pt x="15496" y="7849"/>
                </a:cubicBezTo>
                <a:cubicBezTo>
                  <a:pt x="15496" y="8589"/>
                  <a:pt x="15026" y="9320"/>
                  <a:pt x="14565" y="9320"/>
                </a:cubicBezTo>
                <a:cubicBezTo>
                  <a:pt x="13460" y="9320"/>
                  <a:pt x="12354" y="10800"/>
                  <a:pt x="12354" y="12323"/>
                </a:cubicBezTo>
                <a:lnTo>
                  <a:pt x="12354" y="14281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остроение точки, симметричной данно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3213000"/>
            <a:ext cx="73080" cy="71640"/>
          </a:xfrm>
          <a:prstGeom prst="ellipse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6360" y="299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258920" y="2349360"/>
            <a:ext cx="3457440" cy="3384720"/>
          </a:xfrm>
          <a:prstGeom prst="line">
            <a:avLst/>
          </a:prstGeom>
          <a:ln w="22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1164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24000" y="3284640"/>
            <a:ext cx="1584360" cy="158436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843280" y="3933360"/>
            <a:ext cx="144360" cy="72000"/>
            <a:chOff x="2843280" y="3933360"/>
            <a:chExt cx="144360" cy="72000"/>
          </a:xfrm>
        </p:grpSpPr>
        <p:sp>
          <p:nvSpPr>
            <p:cNvPr id="262" name=""/>
            <p:cNvSpPr/>
            <p:nvPr/>
          </p:nvSpPr>
          <p:spPr>
            <a:xfrm flipV="1">
              <a:off x="2843280" y="3933360"/>
              <a:ext cx="73080" cy="7164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16360" y="3933720"/>
              <a:ext cx="71280" cy="7164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 flipH="1">
            <a:off x="2340000" y="3573360"/>
            <a:ext cx="216000" cy="71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132000" y="4365720"/>
            <a:ext cx="216000" cy="71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4869000"/>
            <a:ext cx="73080" cy="71280"/>
          </a:xfrm>
          <a:prstGeom prst="ellipse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3960" y="479736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’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2349360"/>
            <a:ext cx="27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300720" y="6093000"/>
            <a:ext cx="1800360" cy="405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Verdana"/>
                <a:hlinkClick r:id="rId2" action="ppaction://hlinksldjump"/>
              </a:rPr>
              <a:t>Определен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">
            <a:hlinkClick r:id="rId3" action="ppaction://hlinksldjump"/>
          </p:cNvPr>
          <p:cNvSpPr/>
          <p:nvPr/>
        </p:nvSpPr>
        <p:spPr>
          <a:xfrm>
            <a:off x="8388360" y="6093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2934" y="3837"/>
                </a:moveTo>
                <a:lnTo>
                  <a:pt x="15510" y="6448"/>
                </a:ln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lnTo>
                  <a:pt x="19897" y="10800"/>
                </a:lnTo>
                <a:lnTo>
                  <a:pt x="18243" y="10800"/>
                </a:lnTo>
                <a:lnTo>
                  <a:pt x="18243" y="17989"/>
                </a:lnTo>
                <a:lnTo>
                  <a:pt x="7625" y="17989"/>
                </a:lnTo>
                <a:lnTo>
                  <a:pt x="7625" y="10800"/>
                </a:lnTo>
                <a:lnTo>
                  <a:pt x="5971" y="10800"/>
                </a:lnTo>
                <a:close/>
              </a:path>
              <a:path fill="darkenLess" w="25868" h="21600">
                <a:moveTo>
                  <a:pt x="15510" y="6448"/>
                </a:move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close/>
              </a:path>
              <a:path fill="darkenLess" w="25868" h="21600">
                <a:moveTo>
                  <a:pt x="12012" y="14299"/>
                </a:moveTo>
                <a:lnTo>
                  <a:pt x="13857" y="14299"/>
                </a:lnTo>
                <a:lnTo>
                  <a:pt x="13857" y="17989"/>
                </a:lnTo>
                <a:lnTo>
                  <a:pt x="18243" y="17989"/>
                </a:lnTo>
                <a:lnTo>
                  <a:pt x="18243" y="10800"/>
                </a:lnTo>
                <a:lnTo>
                  <a:pt x="7625" y="10800"/>
                </a:lnTo>
                <a:lnTo>
                  <a:pt x="7625" y="17989"/>
                </a:lnTo>
                <a:lnTo>
                  <a:pt x="12012" y="17989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previousslide"/>
          </p:cNvPr>
          <p:cNvSpPr/>
          <p:nvPr/>
        </p:nvSpPr>
        <p:spPr>
          <a:xfrm>
            <a:off x="572436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80000" y="1989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 АО</a:t>
            </a:r>
            <a:r>
              <a:rPr b="0" lang="ru-RU" sz="2400" spc="-1" strike="noStrike">
                <a:solidFill>
                  <a:srgbClr val="006699"/>
                </a:solidFill>
                <a:latin typeface="Symbol"/>
                <a:ea typeface="Symbol"/>
              </a:rPr>
              <a:t>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0036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51640" y="2637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2. АО=ОА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’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остроение отрезка, симметричного данному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299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258920" y="2349360"/>
            <a:ext cx="3457440" cy="3384720"/>
          </a:xfrm>
          <a:prstGeom prst="line">
            <a:avLst/>
          </a:prstGeom>
          <a:ln w="22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1164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124000" y="3284640"/>
            <a:ext cx="1584360" cy="1584360"/>
            <a:chOff x="2124000" y="3284640"/>
            <a:chExt cx="1584360" cy="1584360"/>
          </a:xfrm>
        </p:grpSpPr>
        <p:sp>
          <p:nvSpPr>
            <p:cNvPr id="280" name=""/>
            <p:cNvSpPr/>
            <p:nvPr/>
          </p:nvSpPr>
          <p:spPr>
            <a:xfrm>
              <a:off x="2124000" y="3284640"/>
              <a:ext cx="1584360" cy="15843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2340000" y="3573360"/>
              <a:ext cx="1008000" cy="863640"/>
              <a:chOff x="2340000" y="3573360"/>
              <a:chExt cx="1008000" cy="86364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2843280" y="3933360"/>
                <a:ext cx="144360" cy="72000"/>
                <a:chOff x="2843280" y="3933360"/>
                <a:chExt cx="144360" cy="7200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2843280" y="3933360"/>
                  <a:ext cx="73080" cy="7164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916360" y="3933720"/>
                  <a:ext cx="71280" cy="7164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 flipH="1">
                <a:off x="2340000" y="3573360"/>
                <a:ext cx="216000" cy="7164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3132000" y="4365720"/>
                <a:ext cx="216000" cy="7128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>
            <a:off x="3706920" y="4832280"/>
            <a:ext cx="73080" cy="71640"/>
          </a:xfrm>
          <a:prstGeom prst="ellipse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73960" y="479736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’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84720" y="2349360"/>
            <a:ext cx="27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780000" y="4508280"/>
            <a:ext cx="1296720" cy="36036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37120" y="4471920"/>
            <a:ext cx="71280" cy="7308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050920" y="1989000"/>
            <a:ext cx="505080" cy="1295640"/>
            <a:chOff x="2050920" y="1989000"/>
            <a:chExt cx="505080" cy="1295640"/>
          </a:xfrm>
        </p:grpSpPr>
        <p:sp>
          <p:nvSpPr>
            <p:cNvPr id="293" name=""/>
            <p:cNvSpPr/>
            <p:nvPr/>
          </p:nvSpPr>
          <p:spPr>
            <a:xfrm>
              <a:off x="2484360" y="1989000"/>
              <a:ext cx="71640" cy="730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3213000"/>
              <a:ext cx="73080" cy="7164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2085840" y="2060640"/>
              <a:ext cx="433440" cy="11523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56000" y="2060640"/>
            <a:ext cx="2520720" cy="2448000"/>
            <a:chOff x="2556000" y="2060640"/>
            <a:chExt cx="2520720" cy="2448000"/>
          </a:xfrm>
        </p:grpSpPr>
        <p:sp>
          <p:nvSpPr>
            <p:cNvPr id="297" name=""/>
            <p:cNvSpPr/>
            <p:nvPr/>
          </p:nvSpPr>
          <p:spPr>
            <a:xfrm>
              <a:off x="2556000" y="2060640"/>
              <a:ext cx="2520720" cy="244800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916000" y="2492280"/>
              <a:ext cx="1511640" cy="1368360"/>
              <a:chOff x="2916000" y="2492280"/>
              <a:chExt cx="1511640" cy="136836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3708360" y="3141720"/>
                <a:ext cx="144360" cy="71280"/>
                <a:chOff x="3708360" y="3141720"/>
                <a:chExt cx="144360" cy="71280"/>
              </a:xfrm>
            </p:grpSpPr>
            <p:sp>
              <p:nvSpPr>
                <p:cNvPr id="300" name=""/>
                <p:cNvSpPr/>
                <p:nvPr/>
              </p:nvSpPr>
              <p:spPr>
                <a:xfrm flipV="1">
                  <a:off x="3708360" y="3141720"/>
                  <a:ext cx="73080" cy="7128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781440" y="3141720"/>
                  <a:ext cx="71280" cy="7128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 flipH="1">
                <a:off x="2916000" y="2492280"/>
                <a:ext cx="215640" cy="7164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987640" y="2565360"/>
                <a:ext cx="216000" cy="7164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4140000" y="3716280"/>
                <a:ext cx="215640" cy="7164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4211640" y="3789360"/>
                <a:ext cx="216000" cy="7128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306" name=""/>
          <p:cNvSpPr/>
          <p:nvPr/>
        </p:nvSpPr>
        <p:spPr>
          <a:xfrm>
            <a:off x="2124000" y="148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076720" y="422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’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00720" y="6093000"/>
            <a:ext cx="1800360" cy="405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Verdana"/>
                <a:hlinkClick r:id="rId2" action="ppaction://hlinksldjump"/>
              </a:rPr>
              <a:t>Определен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8388360" y="6093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2934" y="3837"/>
                </a:moveTo>
                <a:lnTo>
                  <a:pt x="15510" y="6448"/>
                </a:ln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lnTo>
                  <a:pt x="19897" y="10800"/>
                </a:lnTo>
                <a:lnTo>
                  <a:pt x="18243" y="10800"/>
                </a:lnTo>
                <a:lnTo>
                  <a:pt x="18243" y="17989"/>
                </a:lnTo>
                <a:lnTo>
                  <a:pt x="7625" y="17989"/>
                </a:lnTo>
                <a:lnTo>
                  <a:pt x="7625" y="10800"/>
                </a:lnTo>
                <a:lnTo>
                  <a:pt x="5971" y="10800"/>
                </a:lnTo>
                <a:close/>
              </a:path>
              <a:path fill="darkenLess" w="25868" h="21600">
                <a:moveTo>
                  <a:pt x="15510" y="6448"/>
                </a:move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close/>
              </a:path>
              <a:path fill="darkenLess" w="25868" h="21600">
                <a:moveTo>
                  <a:pt x="12012" y="14299"/>
                </a:moveTo>
                <a:lnTo>
                  <a:pt x="13857" y="14299"/>
                </a:lnTo>
                <a:lnTo>
                  <a:pt x="13857" y="17989"/>
                </a:lnTo>
                <a:lnTo>
                  <a:pt x="18243" y="17989"/>
                </a:lnTo>
                <a:lnTo>
                  <a:pt x="18243" y="10800"/>
                </a:lnTo>
                <a:lnTo>
                  <a:pt x="7625" y="10800"/>
                </a:lnTo>
                <a:lnTo>
                  <a:pt x="7625" y="17989"/>
                </a:lnTo>
                <a:lnTo>
                  <a:pt x="12012" y="17989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>
            <a:hlinkClick r:id="" action="ppaction://hlinkshowjump?jump=previousslide"/>
          </p:cNvPr>
          <p:cNvSpPr/>
          <p:nvPr/>
        </p:nvSpPr>
        <p:spPr>
          <a:xfrm>
            <a:off x="572436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11280" y="3860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03640" y="270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'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24360" y="2205000"/>
            <a:ext cx="3240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А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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, АО=ОА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’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В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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, ВО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’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=О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’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’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3. А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’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’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– искомый отрезок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остроение треугольника, симметричного данному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1476360" y="299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258920" y="2349360"/>
            <a:ext cx="3457440" cy="3384720"/>
          </a:xfrm>
          <a:prstGeom prst="line">
            <a:avLst/>
          </a:prstGeom>
          <a:ln w="22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1164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124000" y="3284640"/>
            <a:ext cx="1584360" cy="1584360"/>
            <a:chOff x="2124000" y="3284640"/>
            <a:chExt cx="1584360" cy="1584360"/>
          </a:xfrm>
        </p:grpSpPr>
        <p:sp>
          <p:nvSpPr>
            <p:cNvPr id="319" name=""/>
            <p:cNvSpPr/>
            <p:nvPr/>
          </p:nvSpPr>
          <p:spPr>
            <a:xfrm>
              <a:off x="2124000" y="3284640"/>
              <a:ext cx="1584360" cy="15843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2340000" y="3573360"/>
              <a:ext cx="1008000" cy="863640"/>
              <a:chOff x="2340000" y="3573360"/>
              <a:chExt cx="1008000" cy="86364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2843280" y="3933360"/>
                <a:ext cx="144360" cy="72000"/>
                <a:chOff x="2843280" y="3933360"/>
                <a:chExt cx="144360" cy="72000"/>
              </a:xfrm>
            </p:grpSpPr>
            <p:sp>
              <p:nvSpPr>
                <p:cNvPr id="322" name=""/>
                <p:cNvSpPr/>
                <p:nvPr/>
              </p:nvSpPr>
              <p:spPr>
                <a:xfrm flipV="1">
                  <a:off x="2843280" y="3933360"/>
                  <a:ext cx="73080" cy="7164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916360" y="3933720"/>
                  <a:ext cx="71280" cy="7164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 flipH="1">
                <a:off x="2340000" y="3573360"/>
                <a:ext cx="216000" cy="7164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3132000" y="4365720"/>
                <a:ext cx="216000" cy="7128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"/>
          <p:cNvSpPr/>
          <p:nvPr/>
        </p:nvSpPr>
        <p:spPr>
          <a:xfrm>
            <a:off x="3706920" y="4832280"/>
            <a:ext cx="73080" cy="71640"/>
          </a:xfrm>
          <a:prstGeom prst="ellipse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73960" y="479736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’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84720" y="2349360"/>
            <a:ext cx="27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780000" y="4508280"/>
            <a:ext cx="1296720" cy="36036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37120" y="4471920"/>
            <a:ext cx="71280" cy="7308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556000" y="2060640"/>
            <a:ext cx="2520720" cy="2448000"/>
            <a:chOff x="2556000" y="2060640"/>
            <a:chExt cx="2520720" cy="2448000"/>
          </a:xfrm>
        </p:grpSpPr>
        <p:sp>
          <p:nvSpPr>
            <p:cNvPr id="332" name=""/>
            <p:cNvSpPr/>
            <p:nvPr/>
          </p:nvSpPr>
          <p:spPr>
            <a:xfrm>
              <a:off x="2556000" y="2060640"/>
              <a:ext cx="2520720" cy="244800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2916000" y="2492280"/>
              <a:ext cx="1511640" cy="1368360"/>
              <a:chOff x="2916000" y="2492280"/>
              <a:chExt cx="1511640" cy="136836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3708360" y="3141720"/>
                <a:ext cx="144360" cy="71280"/>
                <a:chOff x="3708360" y="3141720"/>
                <a:chExt cx="144360" cy="71280"/>
              </a:xfrm>
            </p:grpSpPr>
            <p:sp>
              <p:nvSpPr>
                <p:cNvPr id="335" name=""/>
                <p:cNvSpPr/>
                <p:nvPr/>
              </p:nvSpPr>
              <p:spPr>
                <a:xfrm flipV="1">
                  <a:off x="3708360" y="3141720"/>
                  <a:ext cx="73080" cy="7128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781440" y="3141720"/>
                  <a:ext cx="71280" cy="7128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 flipH="1">
                <a:off x="2916000" y="2492280"/>
                <a:ext cx="215640" cy="7164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2987640" y="2565360"/>
                <a:ext cx="216000" cy="7164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4140000" y="3716280"/>
                <a:ext cx="215640" cy="7164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4211640" y="3789360"/>
                <a:ext cx="216000" cy="7128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341" name=""/>
          <p:cNvSpPr/>
          <p:nvPr/>
        </p:nvSpPr>
        <p:spPr>
          <a:xfrm>
            <a:off x="2124000" y="148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76720" y="422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’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124000" y="2997000"/>
            <a:ext cx="503280" cy="252360"/>
          </a:xfrm>
          <a:prstGeom prst="line">
            <a:avLst/>
          </a:prstGeom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050920" y="1989000"/>
            <a:ext cx="611280" cy="1295640"/>
            <a:chOff x="2050920" y="1989000"/>
            <a:chExt cx="611280" cy="1295640"/>
          </a:xfrm>
        </p:grpSpPr>
        <p:sp>
          <p:nvSpPr>
            <p:cNvPr id="345" name=""/>
            <p:cNvSpPr/>
            <p:nvPr/>
          </p:nvSpPr>
          <p:spPr>
            <a:xfrm>
              <a:off x="2494080" y="1989000"/>
              <a:ext cx="71280" cy="730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50920" y="3213000"/>
              <a:ext cx="73080" cy="7164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2079720" y="2060640"/>
              <a:ext cx="433440" cy="11523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43040" y="2025720"/>
              <a:ext cx="71640" cy="988920"/>
            </a:xfrm>
            <a:prstGeom prst="line">
              <a:avLst/>
            </a:prstGeom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90920" y="2960640"/>
              <a:ext cx="71280" cy="730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2627280" y="256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779640" y="4292640"/>
            <a:ext cx="215640" cy="576360"/>
          </a:xfrm>
          <a:prstGeom prst="line">
            <a:avLst/>
          </a:prstGeom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95640" y="4292640"/>
            <a:ext cx="1081080" cy="216000"/>
          </a:xfrm>
          <a:prstGeom prst="line">
            <a:avLst/>
          </a:prstGeom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57480" y="4255920"/>
            <a:ext cx="71640" cy="7308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80000" y="378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’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627280" y="2997360"/>
            <a:ext cx="1368360" cy="1295280"/>
            <a:chOff x="2627280" y="2997360"/>
            <a:chExt cx="1368360" cy="1295280"/>
          </a:xfrm>
        </p:grpSpPr>
        <p:grpSp>
          <p:nvGrpSpPr>
            <p:cNvPr id="356" name=""/>
            <p:cNvGrpSpPr/>
            <p:nvPr/>
          </p:nvGrpSpPr>
          <p:grpSpPr>
            <a:xfrm>
              <a:off x="2627280" y="2997360"/>
              <a:ext cx="1368360" cy="1295280"/>
              <a:chOff x="2627280" y="2997360"/>
              <a:chExt cx="1368360" cy="1295280"/>
            </a:xfrm>
          </p:grpSpPr>
          <p:sp>
            <p:nvSpPr>
              <p:cNvPr id="357" name=""/>
              <p:cNvSpPr/>
              <p:nvPr/>
            </p:nvSpPr>
            <p:spPr>
              <a:xfrm>
                <a:off x="2627280" y="2997360"/>
                <a:ext cx="1368360" cy="129528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843280" y="3214800"/>
                <a:ext cx="216000" cy="142920"/>
              </a:xfrm>
              <a:custGeom>
                <a:avLst/>
                <a:gdLst/>
                <a:ahLst/>
                <a:rect l="l" t="t" r="r" b="b"/>
                <a:pathLst>
                  <a:path w="216" h="153">
                    <a:moveTo>
                      <a:pt x="0" y="45"/>
                    </a:moveTo>
                    <a:cubicBezTo>
                      <a:pt x="6" y="36"/>
                      <a:pt x="9" y="24"/>
                      <a:pt x="18" y="18"/>
                    </a:cubicBezTo>
                    <a:cubicBezTo>
                      <a:pt x="34" y="8"/>
                      <a:pt x="72" y="0"/>
                      <a:pt x="72" y="0"/>
                    </a:cubicBezTo>
                    <a:cubicBezTo>
                      <a:pt x="112" y="60"/>
                      <a:pt x="85" y="103"/>
                      <a:pt x="135" y="153"/>
                    </a:cubicBezTo>
                    <a:cubicBezTo>
                      <a:pt x="205" y="143"/>
                      <a:pt x="179" y="153"/>
                      <a:pt x="216" y="135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492360" y="3860640"/>
                <a:ext cx="216000" cy="144720"/>
              </a:xfrm>
              <a:custGeom>
                <a:avLst/>
                <a:gdLst/>
                <a:ahLst/>
                <a:rect l="l" t="t" r="r" b="b"/>
                <a:pathLst>
                  <a:path w="216" h="153">
                    <a:moveTo>
                      <a:pt x="0" y="45"/>
                    </a:moveTo>
                    <a:cubicBezTo>
                      <a:pt x="6" y="36"/>
                      <a:pt x="9" y="24"/>
                      <a:pt x="18" y="18"/>
                    </a:cubicBezTo>
                    <a:cubicBezTo>
                      <a:pt x="34" y="8"/>
                      <a:pt x="72" y="0"/>
                      <a:pt x="72" y="0"/>
                    </a:cubicBezTo>
                    <a:cubicBezTo>
                      <a:pt x="112" y="60"/>
                      <a:pt x="85" y="103"/>
                      <a:pt x="135" y="153"/>
                    </a:cubicBezTo>
                    <a:cubicBezTo>
                      <a:pt x="205" y="143"/>
                      <a:pt x="179" y="153"/>
                      <a:pt x="216" y="135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3276720" y="3573000"/>
                <a:ext cx="71280" cy="7164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3348000" y="3573360"/>
              <a:ext cx="71640" cy="7164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72360" y="6093000"/>
            <a:ext cx="1800000" cy="405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Verdana"/>
                <a:hlinkClick r:id="rId2" action="ppaction://hlinksldjump"/>
              </a:rPr>
              <a:t>Определен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3" name="">
            <a:hlinkClick r:id="rId3" action="ppaction://hlinksldjump"/>
          </p:cNvPr>
          <p:cNvSpPr/>
          <p:nvPr/>
        </p:nvSpPr>
        <p:spPr>
          <a:xfrm>
            <a:off x="8388360" y="6093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2934" y="3837"/>
                </a:moveTo>
                <a:lnTo>
                  <a:pt x="15510" y="6448"/>
                </a:ln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lnTo>
                  <a:pt x="19897" y="10800"/>
                </a:lnTo>
                <a:lnTo>
                  <a:pt x="18243" y="10800"/>
                </a:lnTo>
                <a:lnTo>
                  <a:pt x="18243" y="17989"/>
                </a:lnTo>
                <a:lnTo>
                  <a:pt x="7625" y="17989"/>
                </a:lnTo>
                <a:lnTo>
                  <a:pt x="7625" y="10800"/>
                </a:lnTo>
                <a:lnTo>
                  <a:pt x="5971" y="10800"/>
                </a:lnTo>
                <a:close/>
              </a:path>
              <a:path fill="darkenLess" w="25868" h="21600">
                <a:moveTo>
                  <a:pt x="15510" y="6448"/>
                </a:move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close/>
              </a:path>
              <a:path fill="darkenLess" w="25868" h="21600">
                <a:moveTo>
                  <a:pt x="12012" y="14299"/>
                </a:moveTo>
                <a:lnTo>
                  <a:pt x="13857" y="14299"/>
                </a:lnTo>
                <a:lnTo>
                  <a:pt x="13857" y="17989"/>
                </a:lnTo>
                <a:lnTo>
                  <a:pt x="18243" y="17989"/>
                </a:lnTo>
                <a:lnTo>
                  <a:pt x="18243" y="10800"/>
                </a:lnTo>
                <a:lnTo>
                  <a:pt x="7625" y="10800"/>
                </a:lnTo>
                <a:lnTo>
                  <a:pt x="7625" y="17989"/>
                </a:lnTo>
                <a:lnTo>
                  <a:pt x="12012" y="17989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572436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651640" y="1773360"/>
            <a:ext cx="3313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A’</a:t>
            </a:r>
            <a:r>
              <a:rPr b="0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   AO=OA’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2. BB’</a:t>
            </a:r>
            <a:r>
              <a:rPr b="0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  BO’=O’B’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3. DD’</a:t>
            </a:r>
            <a:r>
              <a:rPr b="0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  DO”=O”D’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4.  </a:t>
            </a:r>
            <a:r>
              <a:rPr b="0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’B’D’ –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скомый треугольник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627280" y="3500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484360" y="3141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”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564000" y="2708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’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Задач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1. Отрезок АВ, перпендикулярный прямой </a:t>
            </a: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с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, пересекает ее в точке О так, что АО≠ОВ. Симметричны ли точки А и В относительно прямой </a:t>
            </a: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с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2. Прямая </a:t>
            </a: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а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ересекает отрезок МК в его середине под углом, отличным от прямого. Симметричны ли точки М и К относительно прямой </a:t>
            </a: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3. Точки А и В расположены в различных полуплоскостях с границей </a:t>
            </a: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р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так, что отрезок АВ перпендикулярен прямой р и делится ею пополам. Симметричны ли точки А и В относительно прямой </a:t>
            </a: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р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"/>
          <p:cNvSpPr/>
          <p:nvPr/>
        </p:nvSpPr>
        <p:spPr>
          <a:xfrm>
            <a:off x="838836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795672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1084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87" h="21600">
                <a:moveTo>
                  <a:pt x="1084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87" h="21600">
                <a:moveTo>
                  <a:pt x="8267" y="8224"/>
                </a:moveTo>
                <a:lnTo>
                  <a:pt x="12131" y="8224"/>
                </a:lnTo>
                <a:lnTo>
                  <a:pt x="12131" y="15221"/>
                </a:lnTo>
                <a:lnTo>
                  <a:pt x="13420" y="15221"/>
                </a:lnTo>
                <a:lnTo>
                  <a:pt x="13420" y="16144"/>
                </a:lnTo>
                <a:lnTo>
                  <a:pt x="8267" y="16144"/>
                </a:lnTo>
                <a:lnTo>
                  <a:pt x="8267" y="15221"/>
                </a:lnTo>
                <a:lnTo>
                  <a:pt x="9555" y="15221"/>
                </a:lnTo>
                <a:lnTo>
                  <a:pt x="9555" y="9129"/>
                </a:lnTo>
                <a:lnTo>
                  <a:pt x="8267" y="9129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Задач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1. Отрезок АВ, перпендикулярный прямой </a:t>
            </a: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с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, пересекает ее в точке О так, что АО≠ОВ. Симметричны ли точки А и В относительно прямой </a:t>
            </a: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с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Verdana"/>
              </a:rPr>
              <a:t>Ответ: не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2. Прямая </a:t>
            </a: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а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ересекает отрезок МК в его середине под углом, отличным от прямого. Симметричны ли точки М и К относительно прямой </a:t>
            </a: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Verdana"/>
              </a:rPr>
              <a:t>Ответ: не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3. Точки А и В расположены в различных полуплоскостях с границей </a:t>
            </a: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р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так, что отрезок АВ перпендикулярен прямой р и делится ею пополам. Симметричны ли точки А и В относительно прямой </a:t>
            </a: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р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6699"/>
                </a:solidFill>
                <a:latin typeface="Verdana"/>
              </a:rPr>
              <a:t>Ответ: д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">
            <a:hlinkClick r:id="" action="ppaction://hlinkshowjump?jump=nextslide"/>
          </p:cNvPr>
          <p:cNvSpPr/>
          <p:nvPr/>
        </p:nvSpPr>
        <p:spPr>
          <a:xfrm>
            <a:off x="7812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258920" y="1196640"/>
            <a:ext cx="6958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4. Изобразите точку А, лежащую в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I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четверт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оординатной плоскости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Точка В симметрична точке А относительно оси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Точка С симметрична точке В относительно оси х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Точка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симметрична точке С относительно оси у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Что вы можете сказать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6699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99"/>
                </a:solidFill>
                <a:latin typeface="Verdana"/>
              </a:rPr>
              <a:t>о  точках</a:t>
            </a:r>
            <a:r>
              <a:rPr b="0" i="1" lang="en-US" sz="2000" spc="-1" strike="noStrike">
                <a:solidFill>
                  <a:srgbClr val="ff6699"/>
                </a:solidFill>
                <a:latin typeface="Verdana"/>
              </a:rPr>
              <a:t>  A </a:t>
            </a:r>
            <a:r>
              <a:rPr b="0" i="1" lang="ru-RU" sz="2000" spc="-1" strike="noStrike">
                <a:solidFill>
                  <a:srgbClr val="ff6699"/>
                </a:solidFill>
                <a:latin typeface="Verdana"/>
              </a:rPr>
              <a:t>и </a:t>
            </a:r>
            <a:r>
              <a:rPr b="0" i="1" lang="en-US" sz="2000" spc="-1" strike="noStrike">
                <a:solidFill>
                  <a:srgbClr val="ff6699"/>
                </a:solidFill>
                <a:latin typeface="Verdana"/>
              </a:rPr>
              <a:t>D</a:t>
            </a:r>
            <a:r>
              <a:rPr b="0" i="1" lang="ru-RU" sz="20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6699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99"/>
                </a:solidFill>
                <a:latin typeface="Verdana"/>
              </a:rPr>
              <a:t>о фигуре </a:t>
            </a:r>
            <a:r>
              <a:rPr b="0" i="1" lang="en-US" sz="2000" spc="-1" strike="noStrike">
                <a:solidFill>
                  <a:srgbClr val="ff6699"/>
                </a:solidFill>
                <a:latin typeface="Verdana"/>
              </a:rPr>
              <a:t>ABC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6699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99"/>
                </a:solidFill>
                <a:latin typeface="Verdana"/>
              </a:rPr>
              <a:t>при каком условии </a:t>
            </a:r>
            <a:r>
              <a:rPr b="0" i="1" lang="en-US" sz="2000" spc="-1" strike="noStrike">
                <a:solidFill>
                  <a:srgbClr val="ff6699"/>
                </a:solidFill>
                <a:latin typeface="Verdana"/>
              </a:rPr>
              <a:t>ABCD</a:t>
            </a:r>
            <a:r>
              <a:rPr b="0" i="1" lang="ru-RU" sz="2000" spc="-1" strike="noStrike">
                <a:solidFill>
                  <a:srgbClr val="ff6699"/>
                </a:solidFill>
                <a:latin typeface="Verdana"/>
              </a:rPr>
              <a:t> будет квадратом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2119320" y="4702320"/>
            <a:ext cx="52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795672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1084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87" h="21600">
                <a:moveTo>
                  <a:pt x="1084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87" h="21600">
                <a:moveTo>
                  <a:pt x="8267" y="8224"/>
                </a:moveTo>
                <a:lnTo>
                  <a:pt x="12131" y="8224"/>
                </a:lnTo>
                <a:lnTo>
                  <a:pt x="12131" y="15221"/>
                </a:lnTo>
                <a:lnTo>
                  <a:pt x="13420" y="15221"/>
                </a:lnTo>
                <a:lnTo>
                  <a:pt x="13420" y="16144"/>
                </a:lnTo>
                <a:lnTo>
                  <a:pt x="8267" y="16144"/>
                </a:lnTo>
                <a:lnTo>
                  <a:pt x="8267" y="15221"/>
                </a:lnTo>
                <a:lnTo>
                  <a:pt x="9555" y="15221"/>
                </a:lnTo>
                <a:lnTo>
                  <a:pt x="9555" y="9129"/>
                </a:lnTo>
                <a:lnTo>
                  <a:pt x="8267" y="9129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834920" y="1196640"/>
            <a:ext cx="6957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99"/>
                </a:solidFill>
                <a:latin typeface="Verdana"/>
              </a:rPr>
              <a:t>Ответ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6699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99"/>
                </a:solidFill>
                <a:latin typeface="Verdana"/>
              </a:rPr>
              <a:t>Точки </a:t>
            </a:r>
            <a:r>
              <a:rPr b="0" lang="en-US" sz="2400" spc="-1" strike="noStrike">
                <a:solidFill>
                  <a:srgbClr val="ff6699"/>
                </a:solidFill>
                <a:latin typeface="Verdana"/>
              </a:rPr>
              <a:t>A </a:t>
            </a:r>
            <a:r>
              <a:rPr b="0" lang="ru-RU" sz="2400" spc="-1" strike="noStrike">
                <a:solidFill>
                  <a:srgbClr val="ff6699"/>
                </a:solidFill>
                <a:latin typeface="Verdana"/>
              </a:rPr>
              <a:t>и </a:t>
            </a:r>
            <a:r>
              <a:rPr b="0" lang="en-US" sz="2400" spc="-1" strike="noStrike">
                <a:solidFill>
                  <a:srgbClr val="ff6699"/>
                </a:solidFill>
                <a:latin typeface="Verdana"/>
              </a:rPr>
              <a:t>D </a:t>
            </a:r>
            <a:r>
              <a:rPr b="0" lang="ru-RU" sz="2400" spc="-1" strike="noStrike">
                <a:solidFill>
                  <a:srgbClr val="ff6699"/>
                </a:solidFill>
                <a:latin typeface="Verdana"/>
              </a:rPr>
              <a:t>симметричны относительно оси 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6699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Verdana"/>
              </a:rPr>
              <a:t>ABCD</a:t>
            </a:r>
            <a:r>
              <a:rPr b="0" lang="ru-RU" sz="2400" spc="-1" strike="noStrike">
                <a:solidFill>
                  <a:srgbClr val="ff6699"/>
                </a:solidFill>
                <a:latin typeface="Verdana"/>
              </a:rPr>
              <a:t> – прямоугольник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6699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99"/>
                </a:solidFill>
                <a:latin typeface="Verdana"/>
              </a:rPr>
              <a:t>Если расстояния от точки А до оси х и у будут равным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>
            <a:off x="2119320" y="4702320"/>
            <a:ext cx="52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9" name="">
            <a:hlinkClick r:id="rId2" action="ppaction://hlinksldjump"/>
          </p:cNvPr>
          <p:cNvSpPr/>
          <p:nvPr/>
        </p:nvSpPr>
        <p:spPr>
          <a:xfrm>
            <a:off x="7740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0" name="">
            <a:hlinkClick r:id="" action="ppaction://hlinkshowjump?jump=previousslide"/>
          </p:cNvPr>
          <p:cNvSpPr/>
          <p:nvPr/>
        </p:nvSpPr>
        <p:spPr>
          <a:xfrm>
            <a:off x="7164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-684360" y="981000"/>
            <a:ext cx="9577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5. Относительно какой  из координатных  осей симметричны точки М(7;2) и К(-7;2)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6. Точки А(5;…) и В(…;2) симметричны относительно оси Ох. Запишите их пропущенные координаты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7. Точка А(-2;3), В - симметричная ей точка относительно оси Ох, точка С – симметричная точке В относительно оси Оу. Найдите координаты точки С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8. Точка А(3;1), В – симметричная ей точка относительно прямой у = х. Найдите координаты точки В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">
            <a:hlinkClick r:id="" action="ppaction://hlinkshowjump?jump=nextslide"/>
          </p:cNvPr>
          <p:cNvSpPr/>
          <p:nvPr/>
        </p:nvSpPr>
        <p:spPr>
          <a:xfrm>
            <a:off x="4356000" y="6165720"/>
            <a:ext cx="2880000" cy="432000"/>
          </a:xfrm>
          <a:custGeom>
            <a:avLst/>
            <a:gdLst>
              <a:gd name="textAreaLeft" fmla="*/ 27720 w 2880000"/>
              <a:gd name="textAreaRight" fmla="*/ 2852280 w 2880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43898" h="21600">
                <a:moveTo>
                  <a:pt x="0" y="0"/>
                </a:moveTo>
                <a:lnTo>
                  <a:pt x="143898" y="0"/>
                </a:lnTo>
                <a:lnTo>
                  <a:pt x="143898" y="21600"/>
                </a:lnTo>
                <a:lnTo>
                  <a:pt x="0" y="21600"/>
                </a:lnTo>
                <a:close/>
              </a:path>
              <a:path fill="lightenLess" w="143898" h="21600">
                <a:moveTo>
                  <a:pt x="0" y="0"/>
                </a:moveTo>
                <a:lnTo>
                  <a:pt x="143898" y="0"/>
                </a:lnTo>
                <a:lnTo>
                  <a:pt x="142498" y="1400"/>
                </a:lnTo>
                <a:lnTo>
                  <a:pt x="1400" y="1400"/>
                </a:lnTo>
                <a:close/>
              </a:path>
              <a:path fill="darken" w="143898" h="21600">
                <a:moveTo>
                  <a:pt x="143898" y="0"/>
                </a:moveTo>
                <a:lnTo>
                  <a:pt x="143898" y="21600"/>
                </a:lnTo>
                <a:lnTo>
                  <a:pt x="142498" y="20200"/>
                </a:lnTo>
                <a:lnTo>
                  <a:pt x="142498" y="1400"/>
                </a:lnTo>
                <a:close/>
              </a:path>
              <a:path fill="darkenLess" w="143898" h="21600">
                <a:moveTo>
                  <a:pt x="143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498" y="20200"/>
                </a:lnTo>
                <a:close/>
              </a:path>
              <a:path fill="lighten" w="143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оверь себ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оверь себя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802800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Ответ: О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6. Ответ: А(5;-2) и В(5;2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7. Ответ: С(2;-3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8. Ответ: В(1;3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73087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одерж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07640" y="1557360"/>
            <a:ext cx="54723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d22e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2" action="ppaction://hlinksldjump"/>
              </a:rPr>
              <a:t>Симметр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d22e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3" action="ppaction://hlinksldjump"/>
              </a:rPr>
              <a:t>Осевая симметр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d22e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4" action="ppaction://hlinksldjump"/>
              </a:rPr>
              <a:t>Задач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d22e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2"/>
                </a:solidFill>
                <a:latin typeface="Verdana"/>
              </a:rPr>
              <a:t>Симметрия в геометрии, природе, архитектуре, поэз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d22e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2"/>
                </a:solidFill>
                <a:latin typeface="Verdana"/>
              </a:rPr>
              <a:t>Заключ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9. Для каждого из случаев, представленных на рисунке, постройте точки А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'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и В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'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, симметричные точкам А и В относительно прямой с.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"/>
          <p:cNvSpPr/>
          <p:nvPr/>
        </p:nvSpPr>
        <p:spPr>
          <a:xfrm>
            <a:off x="2014560" y="3860640"/>
            <a:ext cx="0" cy="2376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47640" y="5734080"/>
            <a:ext cx="7164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979640" y="4220280"/>
            <a:ext cx="712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042920" y="5373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547640" y="400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050920" y="5877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994920" y="5589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5796000" y="422028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03640" y="3933720"/>
            <a:ext cx="0" cy="230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51280" y="573408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651640" y="43657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48360" y="6165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804000" y="5084640"/>
            <a:ext cx="16574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101080" y="4292640"/>
            <a:ext cx="71280" cy="730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093080" y="4292640"/>
            <a:ext cx="71280" cy="73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101080" y="4292640"/>
            <a:ext cx="71280" cy="73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164360" y="4329000"/>
            <a:ext cx="936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659640" y="3933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172360" y="3933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235360" y="45925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766764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9" name="">
            <a:hlinkClick r:id="rId2" action="ppaction://hlinksldjump"/>
          </p:cNvPr>
          <p:cNvSpPr/>
          <p:nvPr/>
        </p:nvSpPr>
        <p:spPr>
          <a:xfrm>
            <a:off x="7093080" y="6237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244000" y="623736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4712" y="3794"/>
                </a:moveTo>
                <a:lnTo>
                  <a:pt x="18724" y="10800"/>
                </a:lnTo>
                <a:lnTo>
                  <a:pt x="4712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9. Для каждого из случаев, представленных на рисунке, постройте точки А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'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и В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'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, симметричные точкам А и В относительно прямой с.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2014560" y="3860640"/>
            <a:ext cx="0" cy="2376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547640" y="5734080"/>
            <a:ext cx="7164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484360" y="5734080"/>
            <a:ext cx="71640" cy="7128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1979640" y="4220280"/>
            <a:ext cx="712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42920" y="5373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56000" y="5300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'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547640" y="400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195640" y="4005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'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050920" y="5877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4920" y="5589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5796000" y="422028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867280" y="5515920"/>
            <a:ext cx="73080" cy="73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067280" y="4220280"/>
            <a:ext cx="73080" cy="71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003640" y="3933720"/>
            <a:ext cx="0" cy="230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51280" y="573408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508720" y="558972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'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1640" y="43657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24360" y="429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'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48360" y="6165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04000" y="5084640"/>
            <a:ext cx="16574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101080" y="4292640"/>
            <a:ext cx="71280" cy="730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164360" y="5805360"/>
            <a:ext cx="71640" cy="716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164360" y="5840280"/>
            <a:ext cx="100800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7093080" y="4292640"/>
            <a:ext cx="71280" cy="73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8101080" y="4292640"/>
            <a:ext cx="71280" cy="73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164360" y="5804640"/>
            <a:ext cx="71640" cy="7164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172360" y="5805360"/>
            <a:ext cx="71640" cy="7164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64360" y="4329000"/>
            <a:ext cx="936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659640" y="3933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172360" y="3933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235360" y="45925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36" h="21600">
                <a:moveTo>
                  <a:pt x="4712" y="3794"/>
                </a:moveTo>
                <a:lnTo>
                  <a:pt x="18724" y="10800"/>
                </a:lnTo>
                <a:lnTo>
                  <a:pt x="4712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633360" y="544500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'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359920" y="544500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'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979640" y="4220280"/>
            <a:ext cx="71280" cy="7164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10. Постройте треугольники, симметричные данным, относительно прямой с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">
            <a:hlinkClick r:id="rId2" action="ppaction://hlinksldjump"/>
          </p:cNvPr>
          <p:cNvSpPr/>
          <p:nvPr/>
        </p:nvSpPr>
        <p:spPr>
          <a:xfrm>
            <a:off x="7380360" y="609300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12627" y="3837"/>
                </a:moveTo>
                <a:lnTo>
                  <a:pt x="15203" y="6448"/>
                </a:ln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lnTo>
                  <a:pt x="19590" y="10800"/>
                </a:lnTo>
                <a:lnTo>
                  <a:pt x="17936" y="10800"/>
                </a:lnTo>
                <a:lnTo>
                  <a:pt x="17936" y="17989"/>
                </a:lnTo>
                <a:lnTo>
                  <a:pt x="7318" y="17989"/>
                </a:lnTo>
                <a:lnTo>
                  <a:pt x="7318" y="10800"/>
                </a:lnTo>
                <a:lnTo>
                  <a:pt x="5664" y="10800"/>
                </a:lnTo>
                <a:close/>
              </a:path>
              <a:path fill="darkenLess" w="25254" h="21600">
                <a:moveTo>
                  <a:pt x="15203" y="6448"/>
                </a:move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close/>
              </a:path>
              <a:path fill="darkenLess" w="25254" h="21600">
                <a:moveTo>
                  <a:pt x="11704" y="14299"/>
                </a:moveTo>
                <a:lnTo>
                  <a:pt x="13550" y="14299"/>
                </a:lnTo>
                <a:lnTo>
                  <a:pt x="13550" y="17989"/>
                </a:lnTo>
                <a:lnTo>
                  <a:pt x="17936" y="17989"/>
                </a:lnTo>
                <a:lnTo>
                  <a:pt x="17936" y="10800"/>
                </a:lnTo>
                <a:lnTo>
                  <a:pt x="7318" y="10800"/>
                </a:lnTo>
                <a:lnTo>
                  <a:pt x="7318" y="17989"/>
                </a:lnTo>
                <a:lnTo>
                  <a:pt x="11704" y="17989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604360" y="6093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403280" y="4437000"/>
            <a:ext cx="1297080" cy="1297080"/>
          </a:xfrm>
          <a:prstGeom prst="rtTriangle">
            <a:avLst/>
          </a:prstGeom>
          <a:solidFill>
            <a:srgbClr val="f2dffd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00000" y="3933720"/>
            <a:ext cx="2376720" cy="2374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276720" y="6021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796000" y="3213000"/>
            <a:ext cx="1368360" cy="19447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2708280"/>
            <a:ext cx="0" cy="3097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948360" y="551664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802800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10. Постройте треугольники, симметричные данным, относительно прямой с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">
            <a:hlinkClick r:id="rId2" action="ppaction://hlinksldjump"/>
          </p:cNvPr>
          <p:cNvSpPr/>
          <p:nvPr/>
        </p:nvSpPr>
        <p:spPr>
          <a:xfrm>
            <a:off x="7380360" y="609300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12627" y="3837"/>
                </a:moveTo>
                <a:lnTo>
                  <a:pt x="15203" y="6448"/>
                </a:ln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lnTo>
                  <a:pt x="19590" y="10800"/>
                </a:lnTo>
                <a:lnTo>
                  <a:pt x="17936" y="10800"/>
                </a:lnTo>
                <a:lnTo>
                  <a:pt x="17936" y="17989"/>
                </a:lnTo>
                <a:lnTo>
                  <a:pt x="7318" y="17989"/>
                </a:lnTo>
                <a:lnTo>
                  <a:pt x="7318" y="10800"/>
                </a:lnTo>
                <a:lnTo>
                  <a:pt x="5664" y="10800"/>
                </a:lnTo>
                <a:close/>
              </a:path>
              <a:path fill="darkenLess" w="25254" h="21600">
                <a:moveTo>
                  <a:pt x="15203" y="6448"/>
                </a:move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close/>
              </a:path>
              <a:path fill="darkenLess" w="25254" h="21600">
                <a:moveTo>
                  <a:pt x="11704" y="14299"/>
                </a:moveTo>
                <a:lnTo>
                  <a:pt x="13550" y="14299"/>
                </a:lnTo>
                <a:lnTo>
                  <a:pt x="13550" y="17989"/>
                </a:lnTo>
                <a:lnTo>
                  <a:pt x="17936" y="17989"/>
                </a:lnTo>
                <a:lnTo>
                  <a:pt x="17936" y="10800"/>
                </a:lnTo>
                <a:lnTo>
                  <a:pt x="7318" y="10800"/>
                </a:lnTo>
                <a:lnTo>
                  <a:pt x="7318" y="17989"/>
                </a:lnTo>
                <a:lnTo>
                  <a:pt x="11704" y="17989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1" name="">
            <a:hlinkClick r:id="" action="ppaction://hlinkshowjump?jump=nextslide"/>
          </p:cNvPr>
          <p:cNvSpPr/>
          <p:nvPr/>
        </p:nvSpPr>
        <p:spPr>
          <a:xfrm>
            <a:off x="8604360" y="6093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403280" y="4437000"/>
            <a:ext cx="1297080" cy="1297080"/>
          </a:xfrm>
          <a:prstGeom prst="rtTriangle">
            <a:avLst/>
          </a:prstGeom>
          <a:solidFill>
            <a:srgbClr val="f2dffd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900000" y="3933720"/>
            <a:ext cx="2376720" cy="2374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276720" y="6021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796000" y="3213000"/>
            <a:ext cx="1368360" cy="19447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2708280"/>
            <a:ext cx="0" cy="3097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948360" y="551664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516360" y="3213000"/>
            <a:ext cx="576360" cy="194472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093080" y="3213000"/>
            <a:ext cx="792000" cy="194472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516720" y="5157720"/>
            <a:ext cx="136836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03280" y="4437000"/>
            <a:ext cx="129708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700360" y="4437000"/>
            <a:ext cx="0" cy="129708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1. Начертите две прямые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b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 отметьте две точки А и В так, чтобы точка С была симметрична точке А относительно прямой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, а точке В относительно прямой </a:t>
            </a: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b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388360" y="6093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одсказ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Для решения задачи рекомендуется сначала отметить точку С, а лишь потом отмечать точки А и В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">
            <a:hlinkClick r:id="" action="ppaction://hlinkshowjump?jump=nextslide"/>
          </p:cNvPr>
          <p:cNvSpPr/>
          <p:nvPr/>
        </p:nvSpPr>
        <p:spPr>
          <a:xfrm>
            <a:off x="802800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50400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12. Прямые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k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– оси симметрии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окажите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что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BCD -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ямоугольник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5435640" y="2852640"/>
            <a:ext cx="2521080" cy="2808360"/>
          </a:xfrm>
          <a:prstGeom prst="rect">
            <a:avLst/>
          </a:prstGeom>
          <a:solidFill>
            <a:srgbClr val="f2dffd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659640" y="2276640"/>
            <a:ext cx="0" cy="38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03640" y="4292640"/>
            <a:ext cx="352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804000" y="206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604360" y="4149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р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003640" y="256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101080" y="2565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028000" y="5516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9" name="">
            <a:hlinkClick r:id="" action="ppaction://hlinkshowjump?jump=nextslide"/>
          </p:cNvPr>
          <p:cNvSpPr/>
          <p:nvPr/>
        </p:nvSpPr>
        <p:spPr>
          <a:xfrm>
            <a:off x="826920" y="6237360"/>
            <a:ext cx="3240360" cy="431640"/>
          </a:xfrm>
          <a:custGeom>
            <a:avLst/>
            <a:gdLst>
              <a:gd name="textAreaLeft" fmla="*/ 27720 w 3240360"/>
              <a:gd name="textAreaRight" fmla="*/ 3212640 w 324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62036" h="21600">
                <a:moveTo>
                  <a:pt x="0" y="0"/>
                </a:moveTo>
                <a:lnTo>
                  <a:pt x="162036" y="0"/>
                </a:lnTo>
                <a:lnTo>
                  <a:pt x="162036" y="21600"/>
                </a:lnTo>
                <a:lnTo>
                  <a:pt x="0" y="21600"/>
                </a:lnTo>
                <a:close/>
              </a:path>
              <a:path fill="lightenLess" w="162036" h="21600">
                <a:moveTo>
                  <a:pt x="0" y="0"/>
                </a:moveTo>
                <a:lnTo>
                  <a:pt x="162036" y="0"/>
                </a:lnTo>
                <a:lnTo>
                  <a:pt x="160636" y="1400"/>
                </a:lnTo>
                <a:lnTo>
                  <a:pt x="1400" y="1400"/>
                </a:lnTo>
                <a:close/>
              </a:path>
              <a:path fill="darken" w="162036" h="21600">
                <a:moveTo>
                  <a:pt x="162036" y="0"/>
                </a:moveTo>
                <a:lnTo>
                  <a:pt x="162036" y="21600"/>
                </a:lnTo>
                <a:lnTo>
                  <a:pt x="160636" y="20200"/>
                </a:lnTo>
                <a:lnTo>
                  <a:pt x="160636" y="1400"/>
                </a:lnTo>
                <a:close/>
              </a:path>
              <a:path fill="darkenLess" w="162036" h="21600">
                <a:moveTo>
                  <a:pt x="162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636" y="20200"/>
                </a:lnTo>
                <a:close/>
              </a:path>
              <a:path fill="lighten" w="162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оверь себ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3236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604360" y="6093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оказательство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ак как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– ось симметрии, то </a:t>
            </a:r>
            <a:r>
              <a:rPr b="0" lang="ru-RU" sz="2400" spc="-1" strike="noStrike">
                <a:solidFill>
                  <a:srgbClr val="0066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=</a:t>
            </a:r>
            <a:r>
              <a:rPr b="0" lang="ru-RU" sz="2400" spc="-1" strike="noStrike">
                <a:solidFill>
                  <a:srgbClr val="006699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66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=</a:t>
            </a:r>
            <a:r>
              <a:rPr b="0" lang="ru-RU" sz="2400" spc="-1" strike="noStrike">
                <a:solidFill>
                  <a:srgbClr val="0066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. Так как 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– ось симметрии, то </a:t>
            </a:r>
            <a:r>
              <a:rPr b="0" lang="ru-RU" sz="2400" spc="-1" strike="noStrike">
                <a:solidFill>
                  <a:srgbClr val="0066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=</a:t>
            </a:r>
            <a:r>
              <a:rPr b="0" lang="ru-RU" sz="2400" spc="-1" strike="noStrike">
                <a:solidFill>
                  <a:srgbClr val="0066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, </a:t>
            </a:r>
            <a:r>
              <a:rPr b="0" lang="ru-RU" sz="2400" spc="-1" strike="noStrike">
                <a:solidFill>
                  <a:srgbClr val="0066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=</a:t>
            </a:r>
            <a:r>
              <a:rPr b="0" lang="ru-RU" sz="2400" spc="-1" strike="noStrike">
                <a:solidFill>
                  <a:srgbClr val="006699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 Тогда </a:t>
            </a:r>
            <a:r>
              <a:rPr b="0" lang="ru-RU" sz="2400" spc="-1" strike="noStrike">
                <a:solidFill>
                  <a:srgbClr val="0066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=</a:t>
            </a:r>
            <a:r>
              <a:rPr b="0" lang="ru-RU" sz="2400" spc="-1" strike="noStrike">
                <a:solidFill>
                  <a:srgbClr val="0066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=</a:t>
            </a:r>
            <a:r>
              <a:rPr b="0" lang="ru-RU" sz="2400" spc="-1" strike="noStrike">
                <a:solidFill>
                  <a:srgbClr val="0066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=</a:t>
            </a:r>
            <a:r>
              <a:rPr b="0" lang="ru-RU" sz="2400" spc="-1" strike="noStrike">
                <a:solidFill>
                  <a:srgbClr val="006699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=90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°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ВС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– прямоугольник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817236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имметрия в природ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1933560" cy="21510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5289480" y="1646280"/>
            <a:ext cx="2755800" cy="20574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5796000" y="4221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>
            <a:off x="1476360" y="3933720"/>
            <a:ext cx="2870280" cy="2152800"/>
          </a:xfrm>
          <a:prstGeom prst="rect">
            <a:avLst/>
          </a:prstGeom>
          <a:ln w="0">
            <a:noFill/>
          </a:ln>
        </p:spPr>
      </p:pic>
      <p:sp>
        <p:nvSpPr>
          <p:cNvPr id="500" name="">
            <a:hlinkClick r:id="rId5" action="ppaction://hlinksldjump"/>
          </p:cNvPr>
          <p:cNvSpPr/>
          <p:nvPr/>
        </p:nvSpPr>
        <p:spPr>
          <a:xfrm>
            <a:off x="8101080" y="26028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7547"/>
                </a:moveTo>
                <a:lnTo>
                  <a:pt x="7301" y="7547"/>
                </a:lnTo>
                <a:lnTo>
                  <a:pt x="7301" y="12882"/>
                </a:lnTo>
                <a:cubicBezTo>
                  <a:pt x="7301" y="13805"/>
                  <a:pt x="8102" y="14536"/>
                  <a:pt x="9138" y="14536"/>
                </a:cubicBezTo>
                <a:lnTo>
                  <a:pt x="10800" y="14536"/>
                </a:lnTo>
                <a:cubicBezTo>
                  <a:pt x="11836" y="14536"/>
                  <a:pt x="12636" y="13805"/>
                  <a:pt x="12636" y="12882"/>
                </a:cubicBezTo>
                <a:lnTo>
                  <a:pt x="12636" y="7547"/>
                </a:lnTo>
                <a:lnTo>
                  <a:pt x="10800" y="7547"/>
                </a:lnTo>
                <a:lnTo>
                  <a:pt x="14308" y="4039"/>
                </a:lnTo>
                <a:lnTo>
                  <a:pt x="17981" y="7547"/>
                </a:lnTo>
                <a:lnTo>
                  <a:pt x="16144" y="7547"/>
                </a:lnTo>
                <a:lnTo>
                  <a:pt x="16144" y="12882"/>
                </a:lnTo>
                <a:cubicBezTo>
                  <a:pt x="16144" y="15650"/>
                  <a:pt x="13568" y="18209"/>
                  <a:pt x="10800" y="18209"/>
                </a:cubicBezTo>
                <a:lnTo>
                  <a:pt x="9138" y="18209"/>
                </a:lnTo>
                <a:cubicBezTo>
                  <a:pt x="6370" y="18209"/>
                  <a:pt x="3794" y="15650"/>
                  <a:pt x="3794" y="12882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1" name="">
            <a:hlinkClick r:id="" action="ppaction://hlinkshowjump?jump=nextslide"/>
          </p:cNvPr>
          <p:cNvSpPr/>
          <p:nvPr/>
        </p:nvSpPr>
        <p:spPr>
          <a:xfrm>
            <a:off x="8172360" y="6021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В архитектур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2340000" y="2205000"/>
            <a:ext cx="4537080" cy="310680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2340000" y="2198520"/>
            <a:ext cx="4896000" cy="31118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4"/>
          <a:stretch/>
        </p:blipFill>
        <p:spPr>
          <a:xfrm>
            <a:off x="2340000" y="2205000"/>
            <a:ext cx="4896000" cy="327024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5"/>
          <a:stretch/>
        </p:blipFill>
        <p:spPr>
          <a:xfrm>
            <a:off x="2268360" y="1557360"/>
            <a:ext cx="4969080" cy="4815000"/>
          </a:xfrm>
          <a:prstGeom prst="rect">
            <a:avLst/>
          </a:prstGeom>
          <a:ln w="0">
            <a:noFill/>
          </a:ln>
        </p:spPr>
      </p:pic>
      <p:sp>
        <p:nvSpPr>
          <p:cNvPr id="507" name="">
            <a:hlinkClick r:id="rId6" action="ppaction://hlinksldjump"/>
          </p:cNvPr>
          <p:cNvSpPr/>
          <p:nvPr/>
        </p:nvSpPr>
        <p:spPr>
          <a:xfrm>
            <a:off x="8101080" y="26028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7547"/>
                </a:moveTo>
                <a:lnTo>
                  <a:pt x="7301" y="7547"/>
                </a:lnTo>
                <a:lnTo>
                  <a:pt x="7301" y="12882"/>
                </a:lnTo>
                <a:cubicBezTo>
                  <a:pt x="7301" y="13805"/>
                  <a:pt x="8102" y="14536"/>
                  <a:pt x="9138" y="14536"/>
                </a:cubicBezTo>
                <a:lnTo>
                  <a:pt x="10800" y="14536"/>
                </a:lnTo>
                <a:cubicBezTo>
                  <a:pt x="11836" y="14536"/>
                  <a:pt x="12636" y="13805"/>
                  <a:pt x="12636" y="12882"/>
                </a:cubicBezTo>
                <a:lnTo>
                  <a:pt x="12636" y="7547"/>
                </a:lnTo>
                <a:lnTo>
                  <a:pt x="10800" y="7547"/>
                </a:lnTo>
                <a:lnTo>
                  <a:pt x="14308" y="4039"/>
                </a:lnTo>
                <a:lnTo>
                  <a:pt x="17981" y="7547"/>
                </a:lnTo>
                <a:lnTo>
                  <a:pt x="16144" y="7547"/>
                </a:lnTo>
                <a:lnTo>
                  <a:pt x="16144" y="12882"/>
                </a:lnTo>
                <a:cubicBezTo>
                  <a:pt x="16144" y="15650"/>
                  <a:pt x="13568" y="18209"/>
                  <a:pt x="10800" y="18209"/>
                </a:cubicBezTo>
                <a:lnTo>
                  <a:pt x="9138" y="18209"/>
                </a:lnTo>
                <a:cubicBezTo>
                  <a:pt x="6370" y="18209"/>
                  <a:pt x="3794" y="15650"/>
                  <a:pt x="3794" y="12882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8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289080" cy="28728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35" h="21600">
                <a:moveTo>
                  <a:pt x="0" y="0"/>
                </a:moveTo>
                <a:lnTo>
                  <a:pt x="21735" y="0"/>
                </a:lnTo>
                <a:lnTo>
                  <a:pt x="21735" y="21600"/>
                </a:lnTo>
                <a:lnTo>
                  <a:pt x="0" y="21600"/>
                </a:lnTo>
                <a:close/>
              </a:path>
              <a:path fill="lightenLess" w="21735" h="21600">
                <a:moveTo>
                  <a:pt x="0" y="0"/>
                </a:moveTo>
                <a:lnTo>
                  <a:pt x="21735" y="0"/>
                </a:lnTo>
                <a:lnTo>
                  <a:pt x="20335" y="1400"/>
                </a:lnTo>
                <a:lnTo>
                  <a:pt x="1400" y="1400"/>
                </a:lnTo>
                <a:close/>
              </a:path>
              <a:path fill="darken" w="21735" h="21600">
                <a:moveTo>
                  <a:pt x="21735" y="0"/>
                </a:moveTo>
                <a:lnTo>
                  <a:pt x="21735" y="21600"/>
                </a:lnTo>
                <a:lnTo>
                  <a:pt x="20335" y="20200"/>
                </a:lnTo>
                <a:lnTo>
                  <a:pt x="20335" y="1400"/>
                </a:lnTo>
                <a:close/>
              </a:path>
              <a:path fill="darkenLess" w="21735" h="21600">
                <a:moveTo>
                  <a:pt x="21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5" y="20200"/>
                </a:lnTo>
                <a:close/>
              </a:path>
              <a:path fill="lighten" w="21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5" h="21600">
                <a:moveTo>
                  <a:pt x="3861" y="3794"/>
                </a:moveTo>
                <a:lnTo>
                  <a:pt x="17874" y="10800"/>
                </a:lnTo>
                <a:lnTo>
                  <a:pt x="3861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Определе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34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имметрия (от греч.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ymmetria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– соразмерность), в широком смысле – неизменность структуры материального объекта относительно его преобразований. Симметрия играет огромную роль в искусстве и архитектуре. Но ее можно заметить и в музыке, и в поэзии. Симметрия широко встречается в природе, в особенности у кристаллов, у растений и животных. Симметрия может встретиться и в других разделах математики, например при построении графиков функций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8101080" y="26028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7547"/>
                </a:moveTo>
                <a:lnTo>
                  <a:pt x="7301" y="7547"/>
                </a:lnTo>
                <a:lnTo>
                  <a:pt x="7301" y="12882"/>
                </a:lnTo>
                <a:cubicBezTo>
                  <a:pt x="7301" y="13805"/>
                  <a:pt x="8102" y="14536"/>
                  <a:pt x="9138" y="14536"/>
                </a:cubicBezTo>
                <a:lnTo>
                  <a:pt x="10800" y="14536"/>
                </a:lnTo>
                <a:cubicBezTo>
                  <a:pt x="11836" y="14536"/>
                  <a:pt x="12636" y="13805"/>
                  <a:pt x="12636" y="12882"/>
                </a:cubicBezTo>
                <a:lnTo>
                  <a:pt x="12636" y="7547"/>
                </a:lnTo>
                <a:lnTo>
                  <a:pt x="10800" y="7547"/>
                </a:lnTo>
                <a:lnTo>
                  <a:pt x="14308" y="4039"/>
                </a:lnTo>
                <a:lnTo>
                  <a:pt x="17981" y="7547"/>
                </a:lnTo>
                <a:lnTo>
                  <a:pt x="16144" y="7547"/>
                </a:lnTo>
                <a:lnTo>
                  <a:pt x="16144" y="12882"/>
                </a:lnTo>
                <a:cubicBezTo>
                  <a:pt x="16144" y="15650"/>
                  <a:pt x="13568" y="18209"/>
                  <a:pt x="10800" y="18209"/>
                </a:cubicBezTo>
                <a:lnTo>
                  <a:pt x="9138" y="18209"/>
                </a:lnTo>
                <a:cubicBezTo>
                  <a:pt x="6370" y="18209"/>
                  <a:pt x="3794" y="15650"/>
                  <a:pt x="3794" y="12882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708360" y="4581000"/>
            <a:ext cx="4788000" cy="6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Пушкин А.С. «Медный всадник»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…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гранит оделася Не</a:t>
            </a:r>
            <a:r>
              <a:rPr b="0" lang="ru-RU" sz="2400" spc="-1" strike="noStrike">
                <a:solidFill>
                  <a:srgbClr val="cc3300"/>
                </a:solidFill>
                <a:latin typeface="Verdana"/>
              </a:rPr>
              <a:t>ва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сты повисли над во</a:t>
            </a:r>
            <a:r>
              <a:rPr b="0" lang="ru-RU" sz="2400" spc="-1" strike="noStrike">
                <a:solidFill>
                  <a:srgbClr val="cc3300"/>
                </a:solidFill>
                <a:latin typeface="Verdana"/>
              </a:rPr>
              <a:t>дами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мнозелеными са</a:t>
            </a:r>
            <a:r>
              <a:rPr b="0" lang="ru-RU" sz="2400" spc="-1" strike="noStrike">
                <a:solidFill>
                  <a:srgbClr val="cc3300"/>
                </a:solidFill>
                <a:latin typeface="Verdana"/>
              </a:rPr>
              <a:t>дам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Ее покрылись остро</a:t>
            </a:r>
            <a:r>
              <a:rPr b="0" lang="ru-RU" sz="2400" spc="-1" strike="noStrike">
                <a:solidFill>
                  <a:srgbClr val="cc3300"/>
                </a:solidFill>
                <a:latin typeface="Verdana"/>
              </a:rPr>
              <a:t>ва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1835280" y="3357720"/>
            <a:ext cx="55432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2" name="">
            <a:hlinkClick r:id="rId2" action="ppaction://hlinksldjump"/>
          </p:cNvPr>
          <p:cNvSpPr/>
          <p:nvPr/>
        </p:nvSpPr>
        <p:spPr>
          <a:xfrm>
            <a:off x="8101080" y="26028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7547"/>
                </a:moveTo>
                <a:lnTo>
                  <a:pt x="7301" y="7547"/>
                </a:lnTo>
                <a:lnTo>
                  <a:pt x="7301" y="12882"/>
                </a:lnTo>
                <a:cubicBezTo>
                  <a:pt x="7301" y="13805"/>
                  <a:pt x="8102" y="14536"/>
                  <a:pt x="9138" y="14536"/>
                </a:cubicBezTo>
                <a:lnTo>
                  <a:pt x="10800" y="14536"/>
                </a:lnTo>
                <a:cubicBezTo>
                  <a:pt x="11836" y="14536"/>
                  <a:pt x="12636" y="13805"/>
                  <a:pt x="12636" y="12882"/>
                </a:cubicBezTo>
                <a:lnTo>
                  <a:pt x="12636" y="7547"/>
                </a:lnTo>
                <a:lnTo>
                  <a:pt x="10800" y="7547"/>
                </a:lnTo>
                <a:lnTo>
                  <a:pt x="14308" y="4039"/>
                </a:lnTo>
                <a:lnTo>
                  <a:pt x="17981" y="7547"/>
                </a:lnTo>
                <a:lnTo>
                  <a:pt x="16144" y="7547"/>
                </a:lnTo>
                <a:lnTo>
                  <a:pt x="16144" y="12882"/>
                </a:lnTo>
                <a:cubicBezTo>
                  <a:pt x="16144" y="15650"/>
                  <a:pt x="13568" y="18209"/>
                  <a:pt x="10800" y="18209"/>
                </a:cubicBezTo>
                <a:lnTo>
                  <a:pt x="9138" y="18209"/>
                </a:lnTo>
                <a:cubicBezTo>
                  <a:pt x="6370" y="18209"/>
                  <a:pt x="3794" y="15650"/>
                  <a:pt x="3794" y="12882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124000" y="836640"/>
            <a:ext cx="51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мметрия в поэзи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4" name="">
            <a:hlinkClick r:id="" action="ppaction://hlinkshowjump?jump=nextslide"/>
          </p:cNvPr>
          <p:cNvSpPr/>
          <p:nvPr/>
        </p:nvSpPr>
        <p:spPr>
          <a:xfrm>
            <a:off x="802800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Заключе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45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Симметрию можно обнаружить почти везде, если знать, как ее искать. Многие народы с древнейших времен владели представлением о симметрии в широком смысле – как об уравновешенности и гармонии. Творчество людей во всех своих проявлениях тяготеет к симметрии. Посредством симметрии человек всегда пытался, по словам немецкого математика Германа Вейля, «постичь и создать порядок, красоту и совершенство».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">
            <a:hlinkClick r:id="" action="ppaction://hlinkshowjump?jump=endshow"/>
          </p:cNvPr>
          <p:cNvSpPr/>
          <p:nvPr/>
        </p:nvSpPr>
        <p:spPr>
          <a:xfrm>
            <a:off x="83170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6433" y="10800"/>
                </a:moveTo>
                <a:lnTo>
                  <a:pt x="5928" y="17806"/>
                </a:lnTo>
                <a:lnTo>
                  <a:pt x="5928" y="3794"/>
                </a:lnTo>
                <a:close/>
              </a:path>
              <a:path fill="darken" w="25868" h="21600">
                <a:moveTo>
                  <a:pt x="18278" y="3794"/>
                </a:moveTo>
                <a:lnTo>
                  <a:pt x="18278" y="17806"/>
                </a:lnTo>
                <a:lnTo>
                  <a:pt x="19941" y="17806"/>
                </a:lnTo>
                <a:lnTo>
                  <a:pt x="19941" y="3794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5435640" y="1413000"/>
          <a:ext cx="3433680" cy="369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1413000"/>
                    <a:ext cx="343368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Осевая симметр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Две точки, лежащие на одном перпендикуляре к данной прямой по разные стороны и на одинаковом расстоянии от нее, называются симметричными относительно данной прямо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916360" y="3141720"/>
            <a:ext cx="3076560" cy="309384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7812000" y="623736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3794" y="7536"/>
                </a:moveTo>
                <a:lnTo>
                  <a:pt x="7301" y="7536"/>
                </a:lnTo>
                <a:lnTo>
                  <a:pt x="7301" y="12871"/>
                </a:lnTo>
                <a:cubicBezTo>
                  <a:pt x="7301" y="13794"/>
                  <a:pt x="8102" y="14525"/>
                  <a:pt x="9138" y="14525"/>
                </a:cubicBezTo>
                <a:lnTo>
                  <a:pt x="10800" y="14525"/>
                </a:lnTo>
                <a:cubicBezTo>
                  <a:pt x="11836" y="14525"/>
                  <a:pt x="12636" y="13794"/>
                  <a:pt x="12636" y="12871"/>
                </a:cubicBezTo>
                <a:lnTo>
                  <a:pt x="12636" y="7536"/>
                </a:lnTo>
                <a:lnTo>
                  <a:pt x="10800" y="7536"/>
                </a:lnTo>
                <a:lnTo>
                  <a:pt x="14308" y="4028"/>
                </a:lnTo>
                <a:lnTo>
                  <a:pt x="17981" y="7536"/>
                </a:lnTo>
                <a:lnTo>
                  <a:pt x="16144" y="7536"/>
                </a:lnTo>
                <a:lnTo>
                  <a:pt x="16144" y="12871"/>
                </a:lnTo>
                <a:cubicBezTo>
                  <a:pt x="16144" y="15639"/>
                  <a:pt x="13568" y="18198"/>
                  <a:pt x="10800" y="18198"/>
                </a:cubicBezTo>
                <a:lnTo>
                  <a:pt x="9138" y="18198"/>
                </a:lnTo>
                <a:cubicBezTo>
                  <a:pt x="6370" y="18198"/>
                  <a:pt x="3794" y="15639"/>
                  <a:pt x="3794" y="12871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Фигура называется симметричной относительно прямой 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a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если для каждой точки фигуры симметричная ей точка относительно прямой 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а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также принадлежит этой фигуре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43280" y="1521000"/>
            <a:ext cx="3889440" cy="32540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624720" y="1268280"/>
            <a:ext cx="0" cy="3889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3141720"/>
            <a:ext cx="71280" cy="69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85080" y="3141720"/>
            <a:ext cx="71640" cy="69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981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Фигуры, обладающие одной осью симметр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58920" y="1916280"/>
            <a:ext cx="2089080" cy="1441440"/>
            <a:chOff x="1258920" y="1916280"/>
            <a:chExt cx="2089080" cy="1441440"/>
          </a:xfrm>
        </p:grpSpPr>
        <p:sp>
          <p:nvSpPr>
            <p:cNvPr id="189" name=""/>
            <p:cNvSpPr/>
            <p:nvPr/>
          </p:nvSpPr>
          <p:spPr>
            <a:xfrm flipV="1">
              <a:off x="1258920" y="1916280"/>
              <a:ext cx="2016000" cy="720720"/>
            </a:xfrm>
            <a:prstGeom prst="line">
              <a:avLst/>
            </a:prstGeom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58920" y="2637000"/>
              <a:ext cx="2089080" cy="720720"/>
            </a:xfrm>
            <a:prstGeom prst="line">
              <a:avLst/>
            </a:prstGeom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258920" y="2637000"/>
            <a:ext cx="2087640" cy="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40360" y="2133720"/>
            <a:ext cx="1727280" cy="22320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04000" y="1700280"/>
            <a:ext cx="0" cy="345744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4365720"/>
            <a:ext cx="2808360" cy="1727280"/>
          </a:xfrm>
          <a:custGeom>
            <a:avLst/>
            <a:gdLst>
              <a:gd name="textAreaLeft" fmla="*/ 617400 w 2808360"/>
              <a:gd name="textAreaRight" fmla="*/ 2190960 w 2808360"/>
              <a:gd name="textAreaTop" fmla="*/ 379800 h 1727280"/>
              <a:gd name="textAreaBottom" fmla="*/ 13474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2dffd"/>
          </a:solidFill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51280" y="3789360"/>
            <a:ext cx="0" cy="252108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  <a:path fill="darken" w="21600" h="21622">
                <a:moveTo>
                  <a:pt x="3794" y="3804"/>
                </a:moveTo>
                <a:lnTo>
                  <a:pt x="17806" y="10811"/>
                </a:lnTo>
                <a:lnTo>
                  <a:pt x="3794" y="17817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27640" y="3141720"/>
            <a:ext cx="21600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164360" y="3141720"/>
            <a:ext cx="21600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5157720"/>
            <a:ext cx="21600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00360" y="5300640"/>
            <a:ext cx="21600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87280" y="3357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Уго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00120" y="4653000"/>
            <a:ext cx="22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Равнобедренный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треугольник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6308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Равнобедренная трапеци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Фигуры, обладающие двумя осями симметр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6443640" y="2492280"/>
            <a:ext cx="1441440" cy="3024360"/>
          </a:xfrm>
          <a:prstGeom prst="diamond">
            <a:avLst/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64360" y="2060640"/>
            <a:ext cx="0" cy="424800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0920" y="2349360"/>
            <a:ext cx="1873440" cy="3167280"/>
          </a:xfrm>
          <a:prstGeom prst="rect">
            <a:avLst/>
          </a:prstGeom>
          <a:solidFill>
            <a:srgbClr val="f2dffd"/>
          </a:solidFill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1989000"/>
            <a:ext cx="0" cy="424836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9280" y="3933720"/>
            <a:ext cx="273672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27640" y="4005360"/>
            <a:ext cx="194472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79640" y="6165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Прямоугольник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6237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Ромб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Фигуры, имеющие более двух осей симметр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1547640" y="2133720"/>
            <a:ext cx="2232360" cy="1800000"/>
          </a:xfrm>
          <a:prstGeom prst="triangle">
            <a:avLst>
              <a:gd name="adj" fmla="val 50000"/>
            </a:avLst>
          </a:prstGeom>
          <a:solidFill>
            <a:srgbClr val="f2dffd"/>
          </a:solidFill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332000" y="1628640"/>
            <a:ext cx="2592360" cy="2592360"/>
            <a:chOff x="1332000" y="1628640"/>
            <a:chExt cx="2592360" cy="2592360"/>
          </a:xfrm>
        </p:grpSpPr>
        <p:sp>
          <p:nvSpPr>
            <p:cNvPr id="217" name=""/>
            <p:cNvSpPr/>
            <p:nvPr/>
          </p:nvSpPr>
          <p:spPr>
            <a:xfrm>
              <a:off x="2662200" y="1628640"/>
              <a:ext cx="0" cy="259236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332000" y="2565360"/>
              <a:ext cx="2520720" cy="151128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1692360" y="2707920"/>
              <a:ext cx="2232000" cy="129708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5724360" y="2060640"/>
            <a:ext cx="2087640" cy="2016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76720" y="3068640"/>
            <a:ext cx="345600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64000" y="1628640"/>
            <a:ext cx="2769840" cy="2952720"/>
            <a:chOff x="5364000" y="1628640"/>
            <a:chExt cx="2769840" cy="2952720"/>
          </a:xfrm>
        </p:grpSpPr>
        <p:sp>
          <p:nvSpPr>
            <p:cNvPr id="223" name=""/>
            <p:cNvSpPr/>
            <p:nvPr/>
          </p:nvSpPr>
          <p:spPr>
            <a:xfrm>
              <a:off x="6767640" y="1628640"/>
              <a:ext cx="0" cy="295272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64000" y="1700280"/>
              <a:ext cx="2737080" cy="266364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470200" y="1700280"/>
              <a:ext cx="2663640" cy="266364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309840" y="4437000"/>
            <a:ext cx="1944720" cy="194328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5445000"/>
            <a:ext cx="266508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203640" y="4076640"/>
            <a:ext cx="2160360" cy="2592360"/>
            <a:chOff x="3203640" y="4076640"/>
            <a:chExt cx="2160360" cy="2592360"/>
          </a:xfrm>
        </p:grpSpPr>
        <p:sp>
          <p:nvSpPr>
            <p:cNvPr id="229" name=""/>
            <p:cNvSpPr/>
            <p:nvPr/>
          </p:nvSpPr>
          <p:spPr>
            <a:xfrm>
              <a:off x="4284720" y="4076640"/>
              <a:ext cx="0" cy="259236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276720" y="4365360"/>
              <a:ext cx="2087280" cy="208764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03640" y="4365720"/>
              <a:ext cx="2160360" cy="215892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Равносторонний треугольник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96360" y="148428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Квадра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32360" y="587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Круг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Фигуры, не обладающие осевой симметрие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5148360" y="2276640"/>
            <a:ext cx="3168720" cy="1296720"/>
          </a:xfrm>
          <a:prstGeom prst="parallelogram">
            <a:avLst>
              <a:gd name="adj" fmla="val 61091"/>
            </a:avLst>
          </a:prstGeom>
          <a:solidFill>
            <a:srgbClr val="f2dffd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419640" y="4220640"/>
            <a:ext cx="1368360" cy="36036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16360" y="4221000"/>
            <a:ext cx="1008000" cy="50328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19640" y="4581360"/>
            <a:ext cx="360360" cy="151164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780000" y="5877000"/>
            <a:ext cx="1584000" cy="21600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364000" y="4724280"/>
            <a:ext cx="360360" cy="115272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58920" y="1844640"/>
            <a:ext cx="2881440" cy="1728720"/>
          </a:xfrm>
          <a:prstGeom prst="rtTriangle">
            <a:avLst/>
          </a:prstGeom>
          <a:solidFill>
            <a:srgbClr val="99cc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101080" y="587700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3848"/>
                </a:moveTo>
                <a:lnTo>
                  <a:pt x="17806" y="10854"/>
                </a:lnTo>
                <a:lnTo>
                  <a:pt x="3794" y="17861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3789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Произвольный треугольник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2000" y="3789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Параллелограмм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76720" y="5950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Неправильный многоугольник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8:16:03Z</dcterms:created>
  <dc:creator>Larisa</dc:creator>
  <dc:description/>
  <dc:language>en-US</dc:language>
  <cp:lastModifiedBy>Novik</cp:lastModifiedBy>
  <dcterms:modified xsi:type="dcterms:W3CDTF">2005-01-28T13:49:39Z</dcterms:modified>
  <cp:revision>148</cp:revision>
  <dc:subject/>
  <dc:title>СИММЕТРИЯ</dc:title>
</cp:coreProperties>
</file>